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3FE-95AB-420A-9337-D28E5511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342-6AD8-43DE-8164-C2C221B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6C4-3282-4C9B-922A-25FA37DF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373-57C5-40E5-939D-5C49C741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0B1-35E5-4B98-960D-0EB84A97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C52-5EF1-4674-A2AB-A77E285C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E37-90AE-4C10-9AB3-1DD40E36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937-E0D1-4297-99BD-A250D174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6F0-452F-4AC1-AD02-FB82E20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9EB-2BC0-45CF-B7A8-6F7D6BE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F53-A15C-4843-BF60-0EE354E7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409-DCE3-485D-90D1-F1922E0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712-F604-4B83-B229-CDDE89A4D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equation of the line paralle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-2x+7 through the point (-1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ind the equation of the line perpendicular to y=-2x+7 through (-1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MCj04347480000[1]"/>
          <p:cNvPicPr/>
          <p:nvPr/>
        </p:nvPicPr>
        <p:blipFill>
          <a:blip r:embed="rId1"/>
          <a:stretch/>
        </p:blipFill>
        <p:spPr>
          <a:xfrm>
            <a:off x="2743200" y="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3720" y="1142640"/>
            <a:ext cx="312444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8120" y="3733920"/>
            <a:ext cx="3047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ages 30 and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MCj04347480000[1]"/>
          <p:cNvPicPr/>
          <p:nvPr/>
        </p:nvPicPr>
        <p:blipFill>
          <a:blip r:embed="rId2"/>
          <a:stretch/>
        </p:blipFill>
        <p:spPr>
          <a:xfrm>
            <a:off x="4191120" y="5181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Parallel Line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8000" spc="-1" strike="noStrike">
                <a:solidFill>
                  <a:srgbClr val="990033"/>
                </a:solidFill>
                <a:latin typeface="Arial"/>
              </a:rPr>
              <a:t>Transvers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loud"/>
          <p:cNvSpPr/>
          <p:nvPr/>
        </p:nvSpPr>
        <p:spPr>
          <a:xfrm>
            <a:off x="2286000" y="152280"/>
            <a:ext cx="4724280" cy="1381320"/>
          </a:xfrm>
          <a:custGeom>
            <a:avLst/>
            <a:gdLst>
              <a:gd name="textAreaLeft" fmla="*/ 650880 w 4724280"/>
              <a:gd name="textAreaRight" fmla="*/ 3737160 w 4724280"/>
              <a:gd name="textAreaTop" fmla="*/ 208440 h 1381320"/>
              <a:gd name="textAreaBottom" fmla="*/ 1108800 h 138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e, ray, or segment that intersects 2 or more COPLANAR lines, rays, or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2028960" y="3894120"/>
            <a:ext cx="792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987560" y="4675320"/>
            <a:ext cx="792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1"/>
          <p:cNvGrpSpPr/>
          <p:nvPr/>
        </p:nvGrpSpPr>
        <p:grpSpPr>
          <a:xfrm>
            <a:off x="838080" y="3575160"/>
            <a:ext cx="3124440" cy="1100160"/>
            <a:chOff x="838080" y="3575160"/>
            <a:chExt cx="3124440" cy="1100160"/>
          </a:xfrm>
        </p:grpSpPr>
        <p:sp>
          <p:nvSpPr>
            <p:cNvPr id="50" name="Line 5"/>
            <p:cNvSpPr/>
            <p:nvPr/>
          </p:nvSpPr>
          <p:spPr>
            <a:xfrm>
              <a:off x="838080" y="3894120"/>
              <a:ext cx="166716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878040" y="4675320"/>
              <a:ext cx="158724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5"/>
            <p:cNvSpPr/>
            <p:nvPr/>
          </p:nvSpPr>
          <p:spPr>
            <a:xfrm>
              <a:off x="2921040" y="3575160"/>
              <a:ext cx="104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Parallel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42"/>
          <p:cNvGrpSpPr/>
          <p:nvPr/>
        </p:nvGrpSpPr>
        <p:grpSpPr>
          <a:xfrm>
            <a:off x="1234800" y="2971800"/>
            <a:ext cx="2311560" cy="2581200"/>
            <a:chOff x="1234800" y="2971800"/>
            <a:chExt cx="2311560" cy="2581200"/>
          </a:xfrm>
        </p:grpSpPr>
        <p:sp>
          <p:nvSpPr>
            <p:cNvPr id="54" name="Line 9"/>
            <p:cNvSpPr/>
            <p:nvPr/>
          </p:nvSpPr>
          <p:spPr>
            <a:xfrm flipH="1">
              <a:off x="1234800" y="2971800"/>
              <a:ext cx="873000" cy="2414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2157480" y="5184720"/>
              <a:ext cx="1388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trans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9"/>
            <p:cNvSpPr/>
            <p:nvPr/>
          </p:nvSpPr>
          <p:spPr>
            <a:xfrm flipH="1" flipV="1">
              <a:off x="1463400" y="5084640"/>
              <a:ext cx="69372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3"/>
          <p:cNvGrpSpPr/>
          <p:nvPr/>
        </p:nvGrpSpPr>
        <p:grpSpPr>
          <a:xfrm>
            <a:off x="4648320" y="3570120"/>
            <a:ext cx="3809880" cy="1351080"/>
            <a:chOff x="4648320" y="3570120"/>
            <a:chExt cx="3809880" cy="1351080"/>
          </a:xfrm>
        </p:grpSpPr>
        <p:sp>
          <p:nvSpPr>
            <p:cNvPr id="58" name="Line 11"/>
            <p:cNvSpPr/>
            <p:nvPr/>
          </p:nvSpPr>
          <p:spPr>
            <a:xfrm flipV="1">
              <a:off x="6413400" y="3570120"/>
              <a:ext cx="1998720" cy="5702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6365880" y="4707000"/>
              <a:ext cx="2092320" cy="2142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648320" y="400356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Arial"/>
                </a:rPr>
                <a:t>Non-Parallel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4"/>
          <p:cNvGrpSpPr/>
          <p:nvPr/>
        </p:nvGrpSpPr>
        <p:grpSpPr>
          <a:xfrm>
            <a:off x="6067440" y="3429000"/>
            <a:ext cx="1833480" cy="2190600"/>
            <a:chOff x="6067440" y="3429000"/>
            <a:chExt cx="1833480" cy="2190600"/>
          </a:xfrm>
        </p:grpSpPr>
        <p:sp>
          <p:nvSpPr>
            <p:cNvPr id="62" name="Line 13"/>
            <p:cNvSpPr/>
            <p:nvPr/>
          </p:nvSpPr>
          <p:spPr>
            <a:xfrm>
              <a:off x="7248600" y="3429000"/>
              <a:ext cx="652320" cy="1917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6067440" y="5251320"/>
              <a:ext cx="14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trans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V="1">
              <a:off x="7262640" y="5154120"/>
              <a:ext cx="3733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loud"/>
          <p:cNvSpPr/>
          <p:nvPr/>
        </p:nvSpPr>
        <p:spPr>
          <a:xfrm>
            <a:off x="3200400" y="3048120"/>
            <a:ext cx="2209680" cy="838080"/>
          </a:xfrm>
          <a:custGeom>
            <a:avLst/>
            <a:gdLst>
              <a:gd name="textAreaLeft" fmla="*/ 304560 w 2209680"/>
              <a:gd name="textAreaRight" fmla="*/ 1748160 w 2209680"/>
              <a:gd name="textAreaTop" fmla="*/ 126360 h 838080"/>
              <a:gd name="textAreaBottom" fmla="*/ 672840 h 838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6"/>
          <p:cNvSpPr/>
          <p:nvPr/>
        </p:nvSpPr>
        <p:spPr>
          <a:xfrm>
            <a:off x="0" y="423720"/>
            <a:ext cx="2209680" cy="1024200"/>
          </a:xfrm>
          <a:custGeom>
            <a:avLst/>
            <a:gdLst>
              <a:gd name="textAreaLeft" fmla="*/ 304560 w 2209680"/>
              <a:gd name="textAreaRight" fmla="*/ 1748160 w 2209680"/>
              <a:gd name="textAreaTop" fmla="*/ 154440 h 1024200"/>
              <a:gd name="textAreaBottom" fmla="*/ 822240 h 10242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676520" y="1752480"/>
            <a:ext cx="2057400" cy="457200"/>
            <a:chOff x="1676520" y="1752480"/>
            <a:chExt cx="2057400" cy="457200"/>
          </a:xfrm>
        </p:grpSpPr>
        <p:sp>
          <p:nvSpPr>
            <p:cNvPr id="68" name="Rectangle 5"/>
            <p:cNvSpPr/>
            <p:nvPr/>
          </p:nvSpPr>
          <p:spPr>
            <a:xfrm>
              <a:off x="1882080" y="1752480"/>
              <a:ext cx="1714320" cy="457200"/>
            </a:xfrm>
            <a:prstGeom prst="rect">
              <a:avLst/>
            </a:prstGeom>
            <a:solidFill>
              <a:srgbClr val="ffff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1676520" y="17524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744920" y="220968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2156400" y="1828800"/>
              <a:ext cx="95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0"/>
          <p:cNvSpPr/>
          <p:nvPr/>
        </p:nvSpPr>
        <p:spPr>
          <a:xfrm>
            <a:off x="457200" y="6858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I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–The space INSIDE the 2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581280" y="3276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The space OUTSIDE the 2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4"/>
          <p:cNvGrpSpPr/>
          <p:nvPr/>
        </p:nvGrpSpPr>
        <p:grpSpPr>
          <a:xfrm>
            <a:off x="4876920" y="3962520"/>
            <a:ext cx="2133360" cy="1128240"/>
            <a:chOff x="4876920" y="3962520"/>
            <a:chExt cx="2133360" cy="1128240"/>
          </a:xfrm>
        </p:grpSpPr>
        <p:sp>
          <p:nvSpPr>
            <p:cNvPr id="75" name="Rectangle 15"/>
            <p:cNvSpPr/>
            <p:nvPr/>
          </p:nvSpPr>
          <p:spPr>
            <a:xfrm>
              <a:off x="5090040" y="3962520"/>
              <a:ext cx="1777680" cy="3222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5090040" y="4768560"/>
              <a:ext cx="1777680" cy="32220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7"/>
            <p:cNvSpPr/>
            <p:nvPr/>
          </p:nvSpPr>
          <p:spPr>
            <a:xfrm>
              <a:off x="4876920" y="42847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8"/>
            <p:cNvSpPr/>
            <p:nvPr/>
          </p:nvSpPr>
          <p:spPr>
            <a:xfrm>
              <a:off x="4947840" y="4768560"/>
              <a:ext cx="20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9"/>
            <p:cNvSpPr/>
            <p:nvPr/>
          </p:nvSpPr>
          <p:spPr>
            <a:xfrm>
              <a:off x="5516640" y="4703040"/>
              <a:ext cx="9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>
              <a:off x="5587920" y="3962520"/>
              <a:ext cx="9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22"/>
          <p:cNvSpPr/>
          <p:nvPr/>
        </p:nvSpPr>
        <p:spPr>
          <a:xfrm>
            <a:off x="6095880" y="838080"/>
            <a:ext cx="1752840" cy="1295640"/>
          </a:xfrm>
          <a:custGeom>
            <a:avLst/>
            <a:gdLst>
              <a:gd name="textAreaLeft" fmla="*/ 408600 w 1752840"/>
              <a:gd name="textAreaRight" fmla="*/ 1343520 w 1752840"/>
              <a:gd name="textAreaTop" fmla="*/ 136440 h 1295640"/>
              <a:gd name="textAreaBottom" fmla="*/ 820440 h 1295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5"/>
          <p:cNvGrpSpPr/>
          <p:nvPr/>
        </p:nvGrpSpPr>
        <p:grpSpPr>
          <a:xfrm>
            <a:off x="838080" y="4191120"/>
            <a:ext cx="3200400" cy="2286000"/>
            <a:chOff x="838080" y="4191120"/>
            <a:chExt cx="3200400" cy="2286000"/>
          </a:xfrm>
        </p:grpSpPr>
        <p:sp>
          <p:nvSpPr>
            <p:cNvPr id="83" name="Rectangle 24"/>
            <p:cNvSpPr/>
            <p:nvPr/>
          </p:nvSpPr>
          <p:spPr>
            <a:xfrm>
              <a:off x="838080" y="4191120"/>
              <a:ext cx="320040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23"/>
            <p:cNvSpPr/>
            <p:nvPr/>
          </p:nvSpPr>
          <p:spPr>
            <a:xfrm>
              <a:off x="1447560" y="4572360"/>
              <a:ext cx="1905120" cy="1447560"/>
            </a:xfrm>
            <a:custGeom>
              <a:avLst/>
              <a:gdLst>
                <a:gd name="textAreaLeft" fmla="*/ 444600 w 1905120"/>
                <a:gd name="textAreaRight" fmla="*/ 1460520 w 1905120"/>
                <a:gd name="textAreaTop" fmla="*/ 152280 h 1447560"/>
                <a:gd name="textAreaBottom" fmla="*/ 91584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loud"/>
          <p:cNvSpPr/>
          <p:nvPr/>
        </p:nvSpPr>
        <p:spPr>
          <a:xfrm>
            <a:off x="228600" y="152280"/>
            <a:ext cx="8534520" cy="1381320"/>
          </a:xfrm>
          <a:custGeom>
            <a:avLst/>
            <a:gdLst>
              <a:gd name="textAreaLeft" fmla="*/ 1176120 w 8534520"/>
              <a:gd name="textAreaRight" fmla="*/ 6751440 w 8534520"/>
              <a:gd name="textAreaTop" fmla="*/ 208440 h 1381320"/>
              <a:gd name="textAreaBottom" fmla="*/ 1108800 h 138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Angl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53341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Interior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 &amp; &lt;6 are Alternat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&amp; &lt;5 are Alternat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 &amp; &lt;5 are Same Sid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&amp; &lt;6 are Same Side In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304920" y="1981080"/>
            <a:ext cx="3352680" cy="2971080"/>
            <a:chOff x="304920" y="1981080"/>
            <a:chExt cx="3352680" cy="2971080"/>
          </a:xfrm>
        </p:grpSpPr>
        <p:grpSp>
          <p:nvGrpSpPr>
            <p:cNvPr id="89" name="Group 8"/>
            <p:cNvGrpSpPr/>
            <p:nvPr/>
          </p:nvGrpSpPr>
          <p:grpSpPr>
            <a:xfrm>
              <a:off x="304920" y="1981080"/>
              <a:ext cx="3352680" cy="2971080"/>
              <a:chOff x="304920" y="1981080"/>
              <a:chExt cx="3352680" cy="2971080"/>
            </a:xfrm>
          </p:grpSpPr>
          <p:sp>
            <p:nvSpPr>
              <p:cNvPr id="90" name="Line 5"/>
              <p:cNvSpPr/>
              <p:nvPr/>
            </p:nvSpPr>
            <p:spPr>
              <a:xfrm>
                <a:off x="369360" y="2971440"/>
                <a:ext cx="27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"/>
              <p:cNvSpPr/>
              <p:nvPr/>
            </p:nvSpPr>
            <p:spPr>
              <a:xfrm>
                <a:off x="304920" y="3862800"/>
                <a:ext cx="335268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7"/>
              <p:cNvSpPr/>
              <p:nvPr/>
            </p:nvSpPr>
            <p:spPr>
              <a:xfrm flipH="1">
                <a:off x="1078200" y="1981080"/>
                <a:ext cx="1160280" cy="29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9"/>
            <p:cNvSpPr/>
            <p:nvPr/>
          </p:nvSpPr>
          <p:spPr>
            <a:xfrm>
              <a:off x="160020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1752480" y="2971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198108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1523880" y="3631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1219320" y="3521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106668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137160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>
              <a:off x="1447920" y="29714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8"/>
          <p:cNvSpPr/>
          <p:nvPr/>
        </p:nvSpPr>
        <p:spPr>
          <a:xfrm>
            <a:off x="3809880" y="4495680"/>
            <a:ext cx="53341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xterior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 &amp; &lt;8 are Alternat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2 &amp; &lt;7 are Alternat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 &amp; &lt;7 are Same Sid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2 &amp; &lt;8 are Same Side Exterior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loud"/>
          <p:cNvSpPr/>
          <p:nvPr/>
        </p:nvSpPr>
        <p:spPr>
          <a:xfrm>
            <a:off x="228600" y="152280"/>
            <a:ext cx="8534520" cy="1381320"/>
          </a:xfrm>
          <a:custGeom>
            <a:avLst/>
            <a:gdLst>
              <a:gd name="textAreaLeft" fmla="*/ 1176120 w 8534520"/>
              <a:gd name="textAreaRight" fmla="*/ 6751440 w 8534520"/>
              <a:gd name="textAreaTop" fmla="*/ 208440 h 1381320"/>
              <a:gd name="textAreaBottom" fmla="*/ 1108800 h 138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Angl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53341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orresponding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304920" y="1981080"/>
            <a:ext cx="3352680" cy="2971080"/>
            <a:chOff x="304920" y="1981080"/>
            <a:chExt cx="3352680" cy="2971080"/>
          </a:xfrm>
        </p:grpSpPr>
        <p:grpSp>
          <p:nvGrpSpPr>
            <p:cNvPr id="106" name="Group 8"/>
            <p:cNvGrpSpPr/>
            <p:nvPr/>
          </p:nvGrpSpPr>
          <p:grpSpPr>
            <a:xfrm>
              <a:off x="304920" y="1981080"/>
              <a:ext cx="3352680" cy="2971080"/>
              <a:chOff x="304920" y="1981080"/>
              <a:chExt cx="3352680" cy="2971080"/>
            </a:xfrm>
          </p:grpSpPr>
          <p:sp>
            <p:nvSpPr>
              <p:cNvPr id="107" name="Line 5"/>
              <p:cNvSpPr/>
              <p:nvPr/>
            </p:nvSpPr>
            <p:spPr>
              <a:xfrm>
                <a:off x="369360" y="2971440"/>
                <a:ext cx="27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6"/>
              <p:cNvSpPr/>
              <p:nvPr/>
            </p:nvSpPr>
            <p:spPr>
              <a:xfrm>
                <a:off x="304920" y="3862800"/>
                <a:ext cx="335268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7"/>
              <p:cNvSpPr/>
              <p:nvPr/>
            </p:nvSpPr>
            <p:spPr>
              <a:xfrm flipH="1">
                <a:off x="1078200" y="1981080"/>
                <a:ext cx="1160280" cy="29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9"/>
            <p:cNvSpPr/>
            <p:nvPr/>
          </p:nvSpPr>
          <p:spPr>
            <a:xfrm>
              <a:off x="160020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1752480" y="2971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1981080" y="253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1523880" y="3631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1219320" y="3521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106668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1371600" y="39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1447920" y="29714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8"/>
          <p:cNvSpPr/>
          <p:nvPr/>
        </p:nvSpPr>
        <p:spPr>
          <a:xfrm>
            <a:off x="3809880" y="2438280"/>
            <a:ext cx="53341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 &amp; &lt;5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2 &amp; &lt;6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3 &amp; &lt;7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4 &amp; &lt;8 are Corresponding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809880" y="44956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When lines are parallel, corresponding angles are congruent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loud"/>
          <p:cNvSpPr/>
          <p:nvPr/>
        </p:nvSpPr>
        <p:spPr>
          <a:xfrm>
            <a:off x="0" y="0"/>
            <a:ext cx="8534520" cy="2819520"/>
          </a:xfrm>
          <a:custGeom>
            <a:avLst/>
            <a:gdLst>
              <a:gd name="textAreaLeft" fmla="*/ 1176120 w 8534520"/>
              <a:gd name="textAreaRight" fmla="*/ 6751440 w 8534520"/>
              <a:gd name="textAreaTop" fmla="*/ 425520 h 2819520"/>
              <a:gd name="textAreaBottom" fmla="*/ 2263320 h 2819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e0c1ff"/>
              </a:gs>
              <a:gs pos="50000">
                <a:srgbClr val="cc99ff"/>
              </a:gs>
              <a:gs pos="100000">
                <a:srgbClr val="e0c1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Angle Relationshi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LINES ARE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76360" y="31237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lternate Interior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re 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Alternate Exterior Angles are 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Same Side Interior Angles are SUPP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♥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ame Side Exterior Angles are SUPPLEMENTARY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0" y="3276720"/>
            <a:ext cx="3352680" cy="2209680"/>
            <a:chOff x="0" y="3276720"/>
            <a:chExt cx="3352680" cy="2209680"/>
          </a:xfrm>
        </p:grpSpPr>
        <p:sp>
          <p:nvSpPr>
            <p:cNvPr id="124" name="Line 7"/>
            <p:cNvSpPr/>
            <p:nvPr/>
          </p:nvSpPr>
          <p:spPr>
            <a:xfrm>
              <a:off x="0" y="3962520"/>
              <a:ext cx="27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0" y="4724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772920" y="3276720"/>
              <a:ext cx="11602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295280" y="3657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1523880" y="39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1676520" y="36576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1295280" y="4419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914400" y="4422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5"/>
            <p:cNvSpPr/>
            <p:nvPr/>
          </p:nvSpPr>
          <p:spPr>
            <a:xfrm>
              <a:off x="762120" y="4749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6"/>
            <p:cNvSpPr/>
            <p:nvPr/>
          </p:nvSpPr>
          <p:spPr>
            <a:xfrm>
              <a:off x="1066680" y="4749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1143000" y="39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2057400" y="4724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2"/>
            <p:cNvSpPr/>
            <p:nvPr/>
          </p:nvSpPr>
          <p:spPr>
            <a:xfrm>
              <a:off x="2133720" y="3962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6"/>
          <p:cNvGrpSpPr/>
          <p:nvPr/>
        </p:nvGrpSpPr>
        <p:grpSpPr>
          <a:xfrm>
            <a:off x="533520" y="5181480"/>
            <a:ext cx="2361960" cy="1676520"/>
            <a:chOff x="533520" y="5181480"/>
            <a:chExt cx="2361960" cy="1676520"/>
          </a:xfrm>
        </p:grpSpPr>
        <p:sp>
          <p:nvSpPr>
            <p:cNvPr id="138" name="AutoShape 24"/>
            <p:cNvSpPr/>
            <p:nvPr/>
          </p:nvSpPr>
          <p:spPr>
            <a:xfrm>
              <a:off x="533520" y="5181480"/>
              <a:ext cx="2361960" cy="1676520"/>
            </a:xfrm>
            <a:custGeom>
              <a:avLst/>
              <a:gdLst>
                <a:gd name="textAreaLeft" fmla="*/ 325440 w 2361960"/>
                <a:gd name="textAreaRight" fmla="*/ 1868400 w 2361960"/>
                <a:gd name="textAreaTop" fmla="*/ 252360 h 1676520"/>
                <a:gd name="textAreaBottom" fmla="*/ 134640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5"/>
            <p:cNvSpPr/>
            <p:nvPr/>
          </p:nvSpPr>
          <p:spPr>
            <a:xfrm>
              <a:off x="762120" y="5486400"/>
              <a:ext cx="205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the lines are not parallel, these angle relationships DO NOT EXIS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00240" y="121932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&lt;1=120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Find all the remaining angl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762120" y="3352680"/>
            <a:ext cx="4343040" cy="3124080"/>
            <a:chOff x="762120" y="3352680"/>
            <a:chExt cx="4343040" cy="3124080"/>
          </a:xfrm>
        </p:grpSpPr>
        <p:sp>
          <p:nvSpPr>
            <p:cNvPr id="143" name="Line 7"/>
            <p:cNvSpPr/>
            <p:nvPr/>
          </p:nvSpPr>
          <p:spPr>
            <a:xfrm>
              <a:off x="762120" y="4322160"/>
              <a:ext cx="359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762120" y="539928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1763280" y="3352680"/>
              <a:ext cx="150300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2440080" y="38908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2736000" y="432216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2934000" y="389088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2440080" y="496872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1946520" y="49726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1749240" y="543528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2143800" y="543528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2242800" y="432216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3427200" y="5399280"/>
              <a:ext cx="3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3526200" y="4322160"/>
              <a:ext cx="39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1"/>
          <p:cNvSpPr/>
          <p:nvPr/>
        </p:nvSpPr>
        <p:spPr>
          <a:xfrm>
            <a:off x="2971800" y="3886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9810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243828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15238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2133720" y="38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274320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22096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60020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practic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38680" y="20570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ind all the missing angle measures, and name the postulate or theorem that gives us permission to make our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5"/>
          <p:cNvGrpSpPr/>
          <p:nvPr/>
        </p:nvGrpSpPr>
        <p:grpSpPr>
          <a:xfrm>
            <a:off x="533520" y="2590920"/>
            <a:ext cx="5257440" cy="4266720"/>
            <a:chOff x="533520" y="2590920"/>
            <a:chExt cx="5257440" cy="4266720"/>
          </a:xfrm>
        </p:grpSpPr>
        <p:sp>
          <p:nvSpPr>
            <p:cNvPr id="167" name="Line 18"/>
            <p:cNvSpPr/>
            <p:nvPr/>
          </p:nvSpPr>
          <p:spPr>
            <a:xfrm>
              <a:off x="533520" y="3606840"/>
              <a:ext cx="52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>
              <a:off x="628920" y="5435640"/>
              <a:ext cx="506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0"/>
            <p:cNvSpPr/>
            <p:nvPr/>
          </p:nvSpPr>
          <p:spPr>
            <a:xfrm>
              <a:off x="1680480" y="2794320"/>
              <a:ext cx="3058920" cy="40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H="1">
              <a:off x="724680" y="2590920"/>
              <a:ext cx="2102400" cy="38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4548240" y="360684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4739760" y="5435640"/>
              <a:ext cx="38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24" descr="MCj04347480000[1]"/>
          <p:cNvPicPr/>
          <p:nvPr/>
        </p:nvPicPr>
        <p:blipFill>
          <a:blip r:embed="rId1"/>
          <a:stretch/>
        </p:blipFill>
        <p:spPr>
          <a:xfrm>
            <a:off x="6400800" y="54100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6"/>
          <p:cNvSpPr/>
          <p:nvPr/>
        </p:nvSpPr>
        <p:spPr>
          <a:xfrm>
            <a:off x="7238880" y="510552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1905120" y="2819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3657600" y="502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21:55:56Z</dcterms:created>
  <dc:creator>tmcanelly</dc:creator>
  <dc:description/>
  <dc:language>en-US</dc:language>
  <cp:lastModifiedBy>BeasoA</cp:lastModifiedBy>
  <dcterms:modified xsi:type="dcterms:W3CDTF">2010-10-11T16:33:50Z</dcterms:modified>
  <cp:revision>21</cp:revision>
  <dc:subject/>
  <dc:title>3.3 Parallel Lines &amp; Transversals</dc:title>
</cp:coreProperties>
</file>